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93D6-861A-4D8D-A680-58FF685C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17E0-2E5F-44DF-9E97-5F07464F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853A-6C0E-433E-A05C-3F4F8AAD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6A50-74B3-4C4B-845C-392AA324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BA05-6343-4D1D-B22E-BD861BB2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7053-B0E5-4391-AB85-6B801EED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0AD8-B084-49A6-A902-3D3FC779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5E7B-924D-4A60-B659-8E774F94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78F1-CB2C-4AE7-8D51-A20705B9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5C31-7C69-4C84-9ED2-BD60D599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D0E0-AD6D-4425-872D-39AB7959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139A-D289-4475-80F7-68AA31DA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A331-2FA0-4F8E-B568-1D1ED267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1B03-ED73-4889-BE21-FF05DFCF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DD90-7446-4B85-B4D4-980AE8D6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0BD0-DC80-4521-A978-34E26D63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CEF6-0BA9-468B-B161-DD15AA0B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CA1E-F632-49D5-B7DE-4DA09A06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02AD-BDD8-4B58-9290-62BDB6E7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D824-7D4E-4116-87D8-88A5BB7B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D886-D64B-49A0-9B83-3096EAA0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49E6-B7FB-4DF5-A08D-BB79C68F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604E-90B9-4061-87D9-CB9F704F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C761-6C1F-46CB-B8B8-F9672327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A22C-AE4B-439A-A236-DA1C5E8E2B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1F69-F68F-43E4-83C0-2374176E86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205740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Reserved power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orrow mone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3619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uarantee civil rights and liberti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intain Military For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213372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stablish cour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evy and collect tax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1996560"/>
            <a:ext cx="7086600" cy="204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gulate interstate and foreign commer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mplied Pow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1981080"/>
            <a:ext cx="7086600" cy="23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Take private property for public purposes, without just compensa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ath penal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2285640"/>
            <a:ext cx="7086600" cy="166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atify amendments to the Constitu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19810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legated Pow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5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struct and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intain roa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duct Elec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tect Public Health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23619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gulate commerce among states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2133720"/>
            <a:ext cx="7086600" cy="181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gulate drinking ages, marriage and divor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1904760"/>
            <a:ext cx="7086600" cy="295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ight to “make all laws necessary and proper for carrying into execution” its power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27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gulate food and drugs, build interstate highways, &amp; protect consumer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10</a:t>
            </a:r>
            <a:r>
              <a:rPr b="1" lang="en-US" sz="4400" spc="-1" strike="noStrike" baseline="30000">
                <a:solidFill>
                  <a:srgbClr val="eaeaea"/>
                </a:solidFill>
                <a:latin typeface="Tahoma"/>
              </a:rPr>
              <a:t>th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Amend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numerated Pow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current pow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rticle I Section 8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2133720"/>
            <a:ext cx="7086600" cy="127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pressed Pow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228564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Coin Money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stablish school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7:23:00Z</dcterms:created>
  <dc:creator> </dc:creator>
  <dc:description/>
  <dc:language>en-US</dc:language>
  <cp:lastModifiedBy>mebner</cp:lastModifiedBy>
  <dcterms:modified xsi:type="dcterms:W3CDTF">2009-10-15T12:48:04Z</dcterms:modified>
  <cp:revision>7</cp:revision>
  <dc:subject/>
  <dc:title>Reserved powers</dc:title>
</cp:coreProperties>
</file>